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docrine System</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arliest reference to the endocrine system comes from ancient Greece, in about 400 BC. However, it was not until the 16</a:t>
            </a:r>
            <a:r>
              <a:rPr b="0" lang="en-US" sz="2000" spc="-1" strike="noStrike" baseline="30000">
                <a:solidFill>
                  <a:srgbClr val="000000"/>
                </a:solidFill>
                <a:latin typeface="Arial"/>
              </a:rPr>
              <a:t>th</a:t>
            </a:r>
            <a:r>
              <a:rPr b="0" lang="en-US" sz="2000" spc="-1" strike="noStrike">
                <a:solidFill>
                  <a:srgbClr val="000000"/>
                </a:solidFill>
                <a:latin typeface="Arial"/>
              </a:rPr>
              <a:t> century that accurate anatomical descriptions of many of the endocrine organs were published. Research during the 20</a:t>
            </a:r>
            <a:r>
              <a:rPr b="0" lang="en-US" sz="2000" spc="-1" strike="noStrike" baseline="30000">
                <a:solidFill>
                  <a:srgbClr val="000000"/>
                </a:solidFill>
                <a:latin typeface="Arial"/>
              </a:rPr>
              <a:t>th</a:t>
            </a:r>
            <a:r>
              <a:rPr b="0" lang="en-US" sz="2000" spc="-1" strike="noStrike">
                <a:solidFill>
                  <a:srgbClr val="000000"/>
                </a:solidFill>
                <a:latin typeface="Arial"/>
              </a:rPr>
              <a:t> century has vastly improved our understanding of hormones and how they function in the body. Today, endocrinology, the study of the endocrine glands, is an important branch of modern medicine. Endocrinologists are medical doctors who specialize in researching and treating disorders and diseases of the endocrine system.</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docrine system is a group of specialized organs and body tissues that produce, store and secrete chemical substances known as hormon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an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tuitary gla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alam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phy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yroid gla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thyroid gla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neal bo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renal gla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enohypophy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hypophysis</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endocrinolo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endocrine system responsible f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endocrine glan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glands make up the human endocrine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the pituitary gland described as the body’s master gla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role of hormones secreted by the anterior lo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hormone causes breast development and milk produ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enkephalins and endorphi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posterior lobe of hypophysis cont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are oxytocin and vasopressin so important?</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synonyms for each of the following words:</a:t>
            </a:r>
            <a:endParaRPr b="0" lang="en-US" sz="2400" spc="-1" strike="noStrike">
              <a:solidFill>
                <a:srgbClr val="000000"/>
              </a:solidFill>
              <a:latin typeface="Arial"/>
            </a:endParaRPr>
          </a:p>
        </p:txBody>
      </p:sp>
      <p:sp>
        <p:nvSpPr>
          <p:cNvPr id="48" name=""/>
          <p:cNvSpPr txBox="1"/>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r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st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is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ful</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ntonyms for each of the following words:</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mul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or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l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the phrasal verbs in column A with their meanings in column B:</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 about                       To regain health or success after illnes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 on                            To rise; be increased; become high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 over                         To be allowed to continue with someth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 up                            To lose consciousness due to a drug, g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o ahead with               To cause to leave one’s bed after an illn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o down with                 To advance, go we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o under                        To be able to move again after illn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o up                              To become ill with a disease</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following sentences with a phrasal verb from the list below:</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brother is much better but the doctor says he’s not to.................ye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holiday was fine until Jim......................a bad cold; after that, it all got rather dull.</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 temperature is........................; she must stay in be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mother is much better now; she is able to..................a bit mor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hock like that isn’t easily..............................</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 was seriously injured. How is h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ard gave us permission to.......................with this kind of treatmen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start the operation till you are sure she ha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function of the endocrine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crine disorde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2T10:05:23Z</dcterms:modified>
  <cp:revision>21</cp:revision>
  <dc:subject/>
  <dc:title>Slide 1</dc:title>
</cp:coreProperties>
</file>